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81C-A478-491F-88A1-CDC373C9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B17-C416-4BF5-94B4-08847C89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B30-5BA6-4FD7-B88F-4C6EF1CB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C57-AA90-400A-A41A-31CC1016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269-3227-4EEC-B828-95C70E04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49D-5C57-4D4C-92DC-A4D63E5F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69B-8801-4622-A914-8F919D23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2EC-86D6-4829-991C-D2C49741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6F9-52EB-4133-82FA-B90D9B48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653-FDE1-49C3-9AA1-6012A4BB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E63-CB39-4C5A-AB19-55F1556E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4C6-92B0-4EB0-8F66-43924EC8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372A-4A92-4976-881A-0880D9B28C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piritsafaris.com/" TargetMode="External"/><Relationship Id="rId2" Type="http://schemas.openxmlformats.org/officeDocument/2006/relationships/hyperlink" Target="http://www.spiritsafaris.com/logmusic.htm" TargetMode="External"/><Relationship Id="rId3" Type="http://schemas.openxmlformats.org/officeDocument/2006/relationships/hyperlink" Target="http://www.australianvisions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843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Australian Visions </a:t>
            </a:r>
            <a:br>
              <a:rPr sz="4000"/>
            </a:b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Australian Outback - Kimberley - Kakadu - Uluru</a:t>
            </a:r>
            <a:br>
              <a:rPr sz="1400"/>
            </a:b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071_22" descr=""/>
          <p:cNvPicPr/>
          <p:nvPr/>
        </p:nvPicPr>
        <p:blipFill>
          <a:blip r:embed="rId1"/>
          <a:srcRect l="0" t="1945" r="0" b="0"/>
          <a:stretch/>
        </p:blipFill>
        <p:spPr>
          <a:xfrm>
            <a:off x="1908000" y="1779480"/>
            <a:ext cx="5328000" cy="2990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11280" y="5084640"/>
            <a:ext cx="4608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 Music playing from Charlie McMah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Auto play - Esc to Ex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4072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520" y="620640"/>
            <a:ext cx="81532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Australian Vis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00"/>
                </a:solidFill>
                <a:latin typeface="Arial"/>
              </a:rPr>
              <a:t>Kimberley - Kakadu - Uluru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Arial"/>
              </a:rPr>
              <a:t>Across Australia Adventures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th </a:t>
            </a:r>
            <a:r>
              <a:rPr b="0" lang="en-AU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www.SpiritSafaris.com</a:t>
            </a:r>
            <a:r>
              <a:rPr b="1" lang="en-US" sz="29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Call in Australia 02 8213  322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International + 61 2 9251 786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Log Music by Charlie McMah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AU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spiritsafaris.com/logmusic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AustralianVision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6600"/>
                </a:solidFill>
                <a:latin typeface="Arial"/>
              </a:rPr>
              <a:t>Press Esc to Exit – Share this with Your frien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Arial"/>
                <a:ea typeface="Arial"/>
              </a:rPr>
              <a:t>© 2006 Excelink Pacific &amp; Log Musi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60280"/>
            <a:ext cx="9144000" cy="612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0"/>
            <a:ext cx="6264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5:11:48Z</dcterms:created>
  <dc:creator> Richard O'Neill</dc:creator>
  <dc:description/>
  <dc:language>en-US</dc:language>
  <cp:lastModifiedBy> Richard O'Neill</cp:lastModifiedBy>
  <dcterms:modified xsi:type="dcterms:W3CDTF">2006-08-23T22:57:35Z</dcterms:modified>
  <cp:revision>3</cp:revision>
  <dc:subject/>
  <dc:title>Slide 1</dc:title>
</cp:coreProperties>
</file>